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2B67-CF2B-450A-AE70-CE3A8BEFDF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310E-6E78-477F-95D0-A8CC5E3359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985-FC21-43AD-8595-3CBB5BEC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0EC-6944-42A5-853A-2321B90D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CCC-6E22-4CFB-84F3-4F9F5982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40B-DC0F-4287-BCF9-3FF9353F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610-2C43-4B19-80DA-F199774B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C65-BAD0-4A6E-9094-C5E258B4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65E-FD36-4861-B24E-44A4C2D4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770-448D-4D73-BD5C-6FEF67B3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E6B-25BC-403D-AC1E-EA3653C3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575-58D1-44E5-A016-EF54FA2B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E51-F928-4EFE-8D7D-8FB2E8C6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29F-E6EA-4A46-A737-A0D0CD72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D1BF-7A6F-4BBB-BF7B-C53617AA2E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G-RSM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es in def/model_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bug.h: extra message dumping mainly for debugg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end.h:  option dependency / consistency setting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ag.h: for 1-point output, zonal me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ynamics.h: options for dynamic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ction.h:  dependency on machine ty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das.h: options for GDA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cy.h: old op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sc.h: miscellaneous options, e.g., spectral nudging, output type, tracers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hm.h: options for RSM-NHM 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ysics.h: options for physical process, e.g., cloud physics, convectio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ms/: options for RSM-ROMS 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ms_depend.h: option dependency for RSM-ROMS 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sm_depend.h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右矢印 6"/>
          <p:cNvSpPr/>
          <p:nvPr/>
        </p:nvSpPr>
        <p:spPr>
          <a:xfrm>
            <a:off x="179280" y="4941720"/>
            <a:ext cx="289080" cy="216000"/>
          </a:xfrm>
          <a:prstGeom prst="rightArrow">
            <a:avLst>
              <a:gd name="adj1" fmla="val 50000"/>
              <a:gd name="adj2" fmla="val 501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右矢印 7"/>
          <p:cNvSpPr/>
          <p:nvPr/>
        </p:nvSpPr>
        <p:spPr>
          <a:xfrm>
            <a:off x="179280" y="4005360"/>
            <a:ext cx="289080" cy="215640"/>
          </a:xfrm>
          <a:prstGeom prst="rightArrow">
            <a:avLst>
              <a:gd name="adj1" fmla="val 50000"/>
              <a:gd name="adj2" fmla="val 502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.h (deep convec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3"/>
          <p:cNvSpPr/>
          <p:nvPr/>
        </p:nvSpPr>
        <p:spPr>
          <a:xfrm>
            <a:off x="108000" y="1276200"/>
            <a:ext cx="8928000" cy="2770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convective parameterization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KUO     /* Kuo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SAS     /* Simplified Arakawa Schubert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RAS     /* Relaxed Arakawa Schubert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ASC1   /* RAS with detarained cloud water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RASC2   /* RAS with detarained cloud water like RASV2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ASV2   /* RAS with downdraft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CMCNV  /* Zhang McFarlane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ZM2     /* modified Zhang McFarlane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KF2     /* Kain Fritsch convective parameterization from WRF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CMSCV  /* Hack shallow conve. scheme to be used with CCMCNV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.h (lan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3"/>
          <p:cNvSpPr/>
          <p:nvPr/>
        </p:nvSpPr>
        <p:spPr>
          <a:xfrm>
            <a:off x="108000" y="1276200"/>
            <a:ext cx="8928000" cy="2527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land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OSULSM2      /* OSU version 2 land scheme with USGS data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HYDRO        /* Residual free hydrology with osu2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OSULSM1      /* OSU version 1 land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NOALSM1      /* NOAH land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NOAHYDRO     /* Residual free hydrology with noah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NOAH_JUN05   /* updated version of NOAH by Massimo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VICLSM1      /* VIC single tile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NOBSFLW      /* remove base flow from osu2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CRITSNOW 269.66  /* snow threshold temperature at 850 hPa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.h (cloud microphysic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3"/>
          <p:cNvSpPr/>
          <p:nvPr/>
        </p:nvSpPr>
        <p:spPr>
          <a:xfrm>
            <a:off x="108000" y="765000"/>
            <a:ext cx="8928000" cy="2770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cloud water prediction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CLD1         /* diagnostic                   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LD2         /* Zhao and Carr 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LDT93       /* Somerville and Iacobelli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LDWSMMPS    /* Updated version of CLD3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LD3         /* Song-You Hong prognostic qc/qi, qr/qs      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LD5         /* Song-You Hong prognostic qc, qi, qr, qs    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LD6         /* Song-You Hong prognostic qc, qi, qr, qs, qg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NEW_MPHYS    /* additional option for CLD3/CLD5/CLDWSMMP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VCI          /* additional option for CLD3/CLD5/CLDWSMMP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T93PR2       /* new precipitation physics for CLDT93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3699000"/>
          <a:ext cx="8642160" cy="3043080"/>
        </p:xfrm>
        <a:graphic>
          <a:graphicData uri="http://schemas.openxmlformats.org/drawingml/2006/table">
            <a:tbl>
              <a:tblPr/>
              <a:tblGrid>
                <a:gridCol w="761760"/>
                <a:gridCol w="1027080"/>
                <a:gridCol w="1903680"/>
                <a:gridCol w="1598400"/>
                <a:gridCol w="2559240"/>
                <a:gridCol w="792000"/>
              </a:tblGrid>
              <a:tr h="46512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e in *.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ud water prognostic variables (#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iform clou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 (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ed from 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ngo (19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c/qi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ed from RH and qc/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ao and Carr (1997), Sundqvist et al. (1987), Randall (19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DT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c/qi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dtke (1993), Iacobellis and Somerville 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c/qi, qr/qs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ed from RH and qc/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dhia (1989), Hong et al. (1998, 2004), Randall (19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G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D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c, qi, qr, qs 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ed from RH and qc/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G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D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c, qi, qr, qs, qg 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ed from RH and qc/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c.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3"/>
          <p:cNvSpPr/>
          <p:nvPr/>
        </p:nvSpPr>
        <p:spPr>
          <a:xfrm>
            <a:off x="108000" y="493560"/>
            <a:ext cx="8928000" cy="6177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STDAMP           /* Spectral tendency damping scheme for rsm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STDAMP3          /* area average log ps correction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GSMDAMP          /* Spectral nudging scheme for gsm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MRG_POST         /* merge postprocessor into forecast cod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PGB_PARALLEL     /* pgb parallel io and parallel computation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PGB_SEMIPARALLEL /* pgb parallel computation but serial io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PGB_NOPARALLEL   /* serial pgb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SETMTNZERO       /* set orography to zero over ocean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NOPRINT          /* suppress print out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ESET_FHOUR    /* reset fhour to zero at the end of the year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MPGP2F_GLB      /* use global memory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BASEOUT          /* rsm output post processed base field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ADJSOILW         /* adjustment of soil moisture using obsP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NFDR             /* national fire danger rating system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IV1             /* river routing scheme, 1deg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IV05            /* river routing scheme, 0.5deg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SPNG_WID    /* wide (original) sponge zone in rsml/rltbini.F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SPNG_NRW         /* narrow sponge zone in rsml/rltbini.F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O2PROG          /* prognostic co2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ZERBZDIA      /* zero out precip at the boundary buffer zon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SMTHBZ        /* smoothing in the buffer zone for cosmetic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LEHMANN          /* Lehmann's boundary nudging coeff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COMR4 true       /* communication with real*4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ISOTOPE          /* enable isotope prediction (RAS is needed)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NOFRAC           /* vapor tracer mode (ISOTOPE is needed)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.h (diffusion, GHG, etc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3"/>
          <p:cNvSpPr/>
          <p:nvPr/>
        </p:nvSpPr>
        <p:spPr>
          <a:xfrm>
            <a:off x="108000" y="1276200"/>
            <a:ext cx="8928000" cy="4474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thermodynamic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ICE          /* compute saturation on ic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diffusion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DIFFQ   /* horizontal diffusion of moistur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DIFUC    /* horizontal diffusion of cloud water variable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trace gasse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O3C          /* o3 climatology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O2PPM       /* default co2 concentration of 348 ppm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H4PPM       /* default ch4 concentration of 1.75 ppm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N2OPPM       /* default n2o concentration of 0.28 ppm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miscellaneou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2           /* simulate Reanalysis-2 physic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below are untested option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KIMGWD       /* Arakawa Kim gravity wave drag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roms ocean model vertical number of level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ROMS_LEVS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ocean model bathimetry fil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BATH_FILE topo_R2.nc     /* low resolution bathimetry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model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.h file(s) in def/model_config direc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e follow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rcise: choose different cloud microphysics option in physics.h, and re-compile the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understand there might be error during compilation / execution. In this case, please let the developers kno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900000" y="2844720"/>
            <a:ext cx="7272360" cy="1067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configure-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make cle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mak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7:30:37Z</dcterms:created>
  <dc:creator>kei</dc:creator>
  <dc:description/>
  <dc:language>en-US</dc:language>
  <cp:lastModifiedBy>kei</cp:lastModifiedBy>
  <dcterms:modified xsi:type="dcterms:W3CDTF">2010-08-11T16:44:17Z</dcterms:modified>
  <cp:revision>25</cp:revision>
  <dc:subject/>
  <dc:title>How to change model configurations (options, domain, period)</dc:title>
</cp:coreProperties>
</file>